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6C13-E8EE-47D1-A72F-B49F173B2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6893-9F45-4D59-A032-E198FD6C6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AAA7-D248-4B45-9BC6-456E23D50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F0FB-DF2D-4A3C-80B9-3FF409E5E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DC65-8604-4EEE-9909-94BF8A9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67071-DB45-4FAE-86D0-E899CFB5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203E4-6D3F-45B4-80CA-3657A7D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1BC6D-2C51-48E1-83A4-60D24EA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C4E2-011A-4C39-B4DE-3BD4067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6CD8F-6D66-4153-9449-5AA1E7E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1B526-7869-44ED-A616-67CBB21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51FC-CBC5-4D30-BDDF-5B6266779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235C-7D9E-46B3-849D-0C00F45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13975-1534-4A79-BEF1-466C4C2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4D45-A0D2-436F-9759-54D0095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37B0F-A080-4B9B-AA2C-2EFD36B5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14D69-FCA6-4FA9-A47F-6E267CB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674D-063F-4EE8-9EF9-55DD5F20D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4D71-FB02-4A02-9745-84103998C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921F-E742-4CEC-8585-5F696BC41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425D-4538-4B9E-BE40-0041A7EF7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2021-E2C3-4E5B-A3E8-05EF073E8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A3C8-225E-4F04-9B87-E22C41D7E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CAA7-0A76-4EAD-A8AE-E37680002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C5C7-AD2D-4957-82E8-5757557250A4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BF8A-F977-4FAC-824E-08211C1B2DB5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alims.gov.rs/ciril/lekov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9372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15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ndara"/>
              </a:rPr>
              <a:t>Фармакотерапија најчешћих стања  и обољења урогениталног тракта у примарној здравственој заштити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29640" indent="-31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9640" indent="-316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енигна хиперплазија простат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хибитори фосфодиестеразе 5- тадалафи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гонисти </a:t>
            </a:r>
            <a:r>
              <a:rPr b="0" lang="el-GR" sz="2000" spc="-1" strike="noStrike">
                <a:solidFill>
                  <a:srgbClr val="000000"/>
                </a:solidFill>
                <a:latin typeface="Candara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3- аденорецептора –мирабегр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змопреси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Комбинована терапиј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итотерапија-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Pygeum africanum. Serenoa repens, Urtica dioic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аветовање пацијана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898560" indent="-2671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Salpingitis, ooforitis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Pelvic inflammatory disease, PID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Цефтриаксон, доксициклин, метронидазол/ офлоксацин метронидазол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Клиндамицин.гентамицин, пип/тазо; хинолон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Cervicitis- анаеробна (метронидазол; клиндамицин, тинидазол) /аеробна; </a:t>
            </a:r>
            <a:r>
              <a:rPr b="0" i="1" lang="en-US" sz="1700" spc="-1" strike="noStrike">
                <a:solidFill>
                  <a:srgbClr val="000000"/>
                </a:solidFill>
                <a:latin typeface="Candara"/>
              </a:rPr>
              <a:t>Trihomonas vaginalis 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(метронидазол); кандидијаза (клотримазол; нистатин; ); </a:t>
            </a:r>
            <a:r>
              <a:rPr b="0" i="1" lang="en-US" sz="1700" spc="-1" strike="noStrike">
                <a:solidFill>
                  <a:srgbClr val="000000"/>
                </a:solidFill>
                <a:latin typeface="Candara"/>
              </a:rPr>
              <a:t>Chlamydia trachomatis </a:t>
            </a: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(доксициклин; азитромицин; еритромицин; офлоксацин; трудноћа еритромицин/амоксицилин)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ndara"/>
              </a:rPr>
              <a:t>Вулвовагинална кандидијаза- миконазол/еконазол/фентиконазол/нистатин, неомицин, полимиксин Б- вагинално- саветовање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604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Јанковић С. Приручник за практичну наставу и фармакологије и токсикологије. 2018, Факултет медицинских наука, Крагујевац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Rang i Dal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Farmakologija, 8. izdan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Data Statu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Joint Formulary Committe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NF 78 (British National Formulary) September 2019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acmillan Distribution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Katzu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ndara"/>
              </a:rPr>
              <a:t>B, Trevo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А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asic and Clinical Pharmacology, 14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cGraw Hill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hittlesea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, Hods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linical Pharmacy and Therapeutics, International Edition, 6th Editio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 2018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Elsevier Science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iffe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P, Mitchell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nelli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, Stoner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xford Handbook of Clinical Pharmacy (Oxford Medical Handbooks)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7,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Oxford University Pres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АЛИМС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Urednici:, Nenad Ugrešić, Vesela Radonjić, Ljiljana Đukić, Violeta Stanimirović, Branka Terzić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Farmakoterapijski vodič 6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6.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 Agencija za lekove i medicinska sredstva Srbij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eograd.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mPC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лекова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ndara"/>
                <a:hlinkClick r:id="rId1"/>
              </a:rPr>
              <a:t>https://www.alims.gov.rs/ciril/lekovi/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lvemark Sporrong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Kaa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Communication in Pharmacy Practice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 2019 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DPIBasel, Switzerland</a:t>
            </a:r>
            <a:r>
              <a:rPr b="0" lang="sr-RS" sz="1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-42516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Walker R, Whittlesea C. Clinical Pharmacy and Therapeutics. 2012 Elsevier Ltd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25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Литератур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Инфекције доњег дела уринарног тракта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08280" indent="-270000"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Дизурија, полакиурија, ургентно мокрње, хематур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lvl="2" marL="908280" indent="-270000"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Диференцијација гениталних инфекц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Инфекције горњег дела уринарног тракта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08280" indent="-270000"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Повишена телесна температура, мучнина, повраћање, јак бол ...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колонија бактерија/ мл (c.f.u./ml) ;Пиурија; Присуство нитрата; леукоцитна естераза; уринокултур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Esceherichia col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Staphylococcus saprophyticus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Enterobacteriaceae – Proteus mirabilis Klebsiella spp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Врста инфекције и карактеристике пацијен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сетљивост узрочни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армакокинетика ле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ужина терапиј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тенцијални нежељени ефекти лека или евентуална алергија не ле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та-лактамски антибиотиц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Деца трудноћа први избор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Цефалексин- 3-4 пута по 250-500 мг (500мѓ-16мцг/мл)- не метаболише се –више од 90% дозе се елиминише мокраћом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Цефиксим- 400мг или 2Х200мг – код оштећења БФ дозу редуковати (300мг/24 часа -----20о мг/24 часа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Цефтриаксон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миногликозиди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Монотерапија или у комбинацији са бета-лактамим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резервни’?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Амикацин- у случају губитка слуха за високе тонове који траје дуже од 8х могуће потпуно оштећење слух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У случају озбиљних симптома токсичности - хемодијализ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осфомицин-трометам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Бактерицидни лек- активни транспорт- почетна фаза синтезе БЗ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БИ 30%; мин везивање за пп; пролази плацентарну и КМ баријеру, излучује се у мајчино млеко. ГФ 82%; терапијске концентрације одржавају се 36 часов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3г или 3г једном у 10 у току 6 месец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Гит поремећаји, главобоља, ХХ, поремећај вида,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Синергистички са бета лактамима, амниогликозидима, макролидим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лфаметоксазол-триметопри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5:1; p-аминобензојева киселина компетитивно бива истиснута(с); триметоприм сличан фолној киселин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Синергизам – бактерицидни ефекат дозама 1о пута мањим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Присуство гноја смањује ефекат (пурини- потребе за фолном киселином смањене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С- ацетилација у јетри –метаболит бубрег; Т- неизмењен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Pseudomonas  и ентерококе- резистенциј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КИ- ИЈ/Б; алергије, последњи триместар трудноће, деца до 6 недеља старост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36840" indent="-31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Флуорохинолон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Пијелонефритис/простатитис (‘чак и до 4-6 недеља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Инхибиција DNK гираз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Постантибиотски ефекат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БИ 80-95%;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УИ- норфлоксацин 2х400мг; ципроофлоксацин 2х500мг; офлоксацин 2х200мг; левофлоксацин 2х250мг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Магннезијум/алуминијум, цинк; гвожђе смањују А; ФХ 2 сата пре осталих; конвулзије?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Фотосензибилизација, прекид Ахилове тетиве, епилепсија; пролонгиран QT интеврал, хипогликемија, трудноћа, до 18 годин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итрофурантио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Очувана БФ за уроантисептике; Proteus mirabilis Klebsiella- резистенциј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Нема АБ конц у плазми (т1/2 0,3-1час)- бактериостатски и бактерицидно у зависности од концентрације, пх &lt;7 фаворизује ефекат лека; боји мокраћу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4х50-100мг са храном или млеком ; КИ- деца мађа од 3 месеца, дојењ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ГИТ, алергије, ХТ, плућна фиброз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609120" indent="-306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иофилизовани бактеријски лизат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Е.col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ве екстракт плода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Vaccinum macrocarp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Arctostaphylos uva-urs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кутни некомпликовани циститис- до 3 да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курентне инфекц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лапс или реинфекци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офилакса антибиотицим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ијелонефритис-7 и виш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рудниц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ц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аветовање пацијен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остатитис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кутни бактеријски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G-E.coli, Proteus spp., Klebsiella spp., P.aeruginosa, Enterococcus spp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; понекад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N.gonorrhoeae, Chlamydia trachomatis ili Ureaplasma urealyticum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Хронични- поред набројаних 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S.aureus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и коагулаза-негативни стафилокок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Флуорохинолини- ципрофлоксацин/левофлоксацин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Сулфаметоксазол-триметоприм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Хронични- 4-6 недељ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57360" indent="-33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2" marL="937800" indent="-2790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Инфекције уринарног тракт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енигна хиперплазија простат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&gt;50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окатори </a:t>
            </a:r>
            <a:r>
              <a:rPr b="0" lang="el-GR" sz="2000" spc="-1" strike="noStrike">
                <a:solidFill>
                  <a:srgbClr val="000000"/>
                </a:solidFill>
                <a:latin typeface="Candara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-адренергичких рецептора- празосин, теразосин, индорамин, доксазосин, тамсулосин, алфузосин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хибитори 5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andara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редуктазе- финастерид, дутастер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нтагонисти  мускаринских рецептора- дарифенацин, фесотеродин, оксибутинин, пропиверин, софлифенацин, толтеродин, троспију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13</cp:lastModifiedBy>
  <dcterms:modified xsi:type="dcterms:W3CDTF">2021-01-29T09:16:38Z</dcterms:modified>
  <cp:revision>641</cp:revision>
  <dc:subject>Klinicki farmakolog</dc:subject>
  <dc:title>Predavanje za sajt fakulteta</dc:title>
</cp:coreProperties>
</file>